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82500"/>
        <c:axId val="61432848"/>
      </c:barChart>
      <c:catAx>
        <c:axId val="23182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32848"/>
        <c:crosses val="autoZero"/>
        <c:auto val="1"/>
        <c:lblAlgn val="ctr"/>
        <c:lblOffset val="100"/>
        <c:noMultiLvlLbl val="0"/>
      </c:catAx>
      <c:valAx>
        <c:axId val="61432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82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331-E7D3-4599-8717-D2A24E51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02D-0071-408B-A215-A72CE2C5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DF4-665F-45B5-904E-CFE00EE7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FA2-98C1-480D-85B2-01A71906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318-815B-4352-8937-F2DC6CA3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039-95E0-4B70-916B-8222C623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52D-F01F-4850-8539-E71A1BCB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003-ACFA-4929-9935-3A0EDB4B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6D9-60AE-4AAB-9CDA-7AA431E0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64D-F9F3-4134-B8E4-6D668C1D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C2C-5302-4419-AF02-FD62D1F4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4F2-DACD-454A-B202-ADB4C635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43823-5F59-47A0-AAFB-1CA3500571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