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359047"/>
        <c:axId val="5076343"/>
      </c:barChart>
      <c:catAx>
        <c:axId val="543590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76343"/>
        <c:crosses val="autoZero"/>
        <c:auto val="1"/>
        <c:lblAlgn val="ctr"/>
        <c:lblOffset val="100"/>
        <c:noMultiLvlLbl val="0"/>
      </c:catAx>
      <c:valAx>
        <c:axId val="50763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3590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E599-D761-474E-90EE-B11D79C2C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4068-9024-428F-B4A8-37E996D8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048B-F2C2-4768-8722-D0BEB22F9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E6A3-3421-4B30-9A5E-FCD415A90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48D2-F17D-4749-991B-42824DB2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78B6-2677-4EF4-847D-DB7CED22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480F-E931-49F8-9AF1-7E894A3D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3483-D9FA-4392-BD0A-2E22C72B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804B-8809-4E7B-A005-24EF2563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C525-124E-405A-916C-512DA2CE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B5E3-698F-4C3F-889B-2F6F6149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E7FA-FBF7-439A-81F8-C3C1D636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EF137-040A-45CE-AA15-718206CE32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