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03975"/>
        <c:axId val="97066658"/>
      </c:barChart>
      <c:catAx>
        <c:axId val="53203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66658"/>
        <c:crosses val="autoZero"/>
        <c:auto val="1"/>
        <c:lblAlgn val="ctr"/>
        <c:lblOffset val="100"/>
        <c:noMultiLvlLbl val="0"/>
      </c:catAx>
      <c:valAx>
        <c:axId val="970666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03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28EC-77C9-448F-AB00-F9873649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197-0E6D-4D4D-8854-B0780FE7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A66-822A-413C-9756-F0F84D08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9850-4C00-4593-B24D-5B2EBC71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17D-9AAC-47E5-AFB9-57C521AB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394-1A4C-4BBD-ABB1-0F5DE61E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56E-FB5B-4EA4-A099-6D237032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A828-A168-487A-80EE-41CA9563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E41-F5DF-48C7-BF25-4A73FDF5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BDE4-9EBB-4BC7-98D6-DA7ED3A6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7637-E830-44E3-9209-25E28228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994-D61F-4FC5-ADC8-0D03494D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0D750-8525-4EBF-87DB-EA501963F5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