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29760"/>
        <c:axId val="43289327"/>
      </c:barChart>
      <c:catAx>
        <c:axId val="30929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89327"/>
        <c:crosses val="autoZero"/>
        <c:auto val="1"/>
        <c:lblAlgn val="ctr"/>
        <c:lblOffset val="100"/>
        <c:noMultiLvlLbl val="0"/>
      </c:catAx>
      <c:valAx>
        <c:axId val="43289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29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DAD-3F22-43A5-A2C7-3B3DA0B1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594-2DD6-48A7-BFDE-1C6BC00D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0143-363A-49DB-A660-E5172328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A63-57E8-4A18-90A6-0E226AB9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D29-0255-4408-9277-B0AC593B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DF3-6DEF-462C-A427-38928F0E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237-0702-4DF8-B987-9518E376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4FE-055D-43B1-A2E0-E9FA4309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628-5923-4EE9-8AC5-9F3FD57E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EE8-4438-42BF-AC41-B6BCB605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10A-272E-4B59-8723-978C1A6D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1235-6082-4975-8F3D-D9F0927A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3A77F-ADD2-4DB8-8802-556376B187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