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62086"/>
        <c:axId val="31634723"/>
      </c:barChart>
      <c:catAx>
        <c:axId val="76262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34723"/>
        <c:crosses val="autoZero"/>
        <c:auto val="1"/>
        <c:lblAlgn val="ctr"/>
        <c:lblOffset val="100"/>
        <c:noMultiLvlLbl val="0"/>
      </c:catAx>
      <c:valAx>
        <c:axId val="31634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62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F2F-BB09-4B05-97B9-6668F1E6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F62-5B68-4621-B881-4BB9DF1D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F7A-63ED-4D50-8303-F685DBB2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384-EF66-466C-BF28-23A82CD7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140-82EB-46A1-91DE-1C86AA5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640-8456-4E21-B20C-096AE362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CD6-332B-4FA0-8D66-B57295DF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A30-FBFA-4B1B-9196-084003A4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307-BC8A-4FD1-8642-0FB0D84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DB0-5883-4057-85CE-15F55236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425-E4C2-4872-94A6-1FFA9D3B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532-68ED-4B0F-AF8F-BEFD27B9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ECD35-D58A-4E92-A883-70ED3B870C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