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76966"/>
        <c:axId val="53496297"/>
      </c:barChart>
      <c:catAx>
        <c:axId val="8027696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496297"/>
        <c:crosses val="autoZero"/>
        <c:auto val="1"/>
        <c:lblAlgn val="ctr"/>
        <c:lblOffset val="100"/>
        <c:noMultiLvlLbl val="0"/>
      </c:catAx>
      <c:valAx>
        <c:axId val="5349629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7696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B8ED-6AA1-4885-9E02-7959957E31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D335B-3F40-4B67-85C7-66735B4115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B086E-A5CF-42E5-BDE9-99E5FDAD8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83BC9-56EB-4333-A259-238DC0CDFD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BA20-D153-4BD2-ACC7-4A6B043825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206D-36A9-400A-9B60-606D3DF24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1BA50-1759-4B00-A60F-3051AC883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5C6D1-0957-47B8-BED1-FFFDFD9A7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6F1C8-7D66-482A-8874-3F73C8B0A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5495D-2732-4DDD-907B-E19280A08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CD3A8-2C69-412F-88D6-CC2670311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BD8B-CA83-41D2-9924-D83D8132C2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32A1F-E604-446E-A52C-A5AA91F04AB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