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478856"/>
        <c:axId val="9253867"/>
      </c:barChart>
      <c:catAx>
        <c:axId val="3947885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3867"/>
        <c:crosses val="autoZero"/>
        <c:auto val="1"/>
        <c:lblAlgn val="ctr"/>
        <c:lblOffset val="100"/>
        <c:noMultiLvlLbl val="0"/>
      </c:catAx>
      <c:valAx>
        <c:axId val="92538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47885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DCD44-E50B-4FA9-BF17-B0663B9DB7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3F7B-897B-40FD-B46E-D306AD9536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2881-89F9-4161-9ABE-AC03DB09B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0942C-CD52-40BC-89D2-3E1C5B778B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FE12-DD95-4534-92C8-4CB2B1DC8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507C2-4A06-4745-9C23-D33F3E812D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FDC08-5F4B-489A-ACA5-28E12DC42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4015A-10E0-43BA-9172-B34392634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D395-0A50-4751-A782-37F65F36A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9E69C-F75C-44EE-89A8-F1F4A7AF4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A3AB0-3B1D-45F9-9586-8DA5B6B22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3B65-054F-40A8-84C2-61D8563C5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E8DA37-D69B-4615-89AC-9013BC39194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