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54841"/>
        <c:axId val="27468261"/>
      </c:barChart>
      <c:catAx>
        <c:axId val="94054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68261"/>
        <c:crosses val="autoZero"/>
        <c:auto val="1"/>
        <c:lblAlgn val="ctr"/>
        <c:lblOffset val="100"/>
        <c:noMultiLvlLbl val="0"/>
      </c:catAx>
      <c:valAx>
        <c:axId val="27468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4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BC2-4862-42B6-A24E-B491E08F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25E-7844-4B37-98B8-D69ACFC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C15-C5F0-4E59-ADC8-560E011D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D06-38D2-4F84-B197-C9F709D4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A0A-142B-47E5-B895-15FC457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41E-C71B-4839-89F4-7271833A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48E-3372-468D-8793-BE3C5E3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34D-08B3-451B-BBA3-6E9EE7B9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252-A496-4B0D-AD88-57DC40D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0DA-A577-4BAA-A655-3D362EF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B6E-B8F7-48ED-B1A5-835A03A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AA6-3CCD-47C8-977A-1F681FA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9FA0-F9D0-4DB4-BE7C-5B2123EC9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